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E73-0B75-420B-B59C-741157EF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B56-C5A4-4A5E-AAEF-DED090BE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7E8-92EF-436D-8811-1F24D81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222-86B9-49A5-96CD-2A645687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325-9E60-49F7-9925-80E7A87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ECF-7AF3-49AA-B932-082E0895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773-311F-4945-845E-07469F4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EB3-E617-4F24-93E4-5188A0BD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406-AC6A-4CFD-BEE9-57D32C9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89C-54A2-444B-AF42-656C3F9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F0F-F1ED-47D7-B1C4-9D5A475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E95-DA27-4881-A2D1-B9ED131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1F2-EB8C-4432-8EEF-86E4C5061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Копнея, Боже мой, за Твоето лице. </a:t>
            </a: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                                            </a:t>
            </a:r>
            <a:br>
              <a:rPr sz="6600"/>
            </a:b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Протягаш Ти </a:t>
            </a:r>
            <a:br>
              <a:rPr sz="6600"/>
            </a:b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с любов към мен прободени ръц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47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О, </a:t>
            </a: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Боже</a:t>
            </a: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, милостив,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към мен 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погледнеш ли,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 в</a:t>
            </a: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ъв</a:t>
            </a: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 Твоите очи</a:t>
            </a: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аз виждам 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обич</a:t>
            </a: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как гор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И моя грях с любов прощаваш винаги.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В морските</a:t>
            </a: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дълбочини 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на век</a:t>
            </a:r>
            <a:r>
              <a:rPr b="1" lang="bg-BG" sz="6600" spc="-1" strike="noStrike">
                <a:solidFill>
                  <a:srgbClr val="ff9933"/>
                </a:solidFill>
                <a:latin typeface="Monotype Corsiva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ff9933"/>
                </a:solidFill>
                <a:latin typeface="Monotype Corsiva"/>
              </a:rPr>
              <a:t>го хвърляш Ти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1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0:20:27Z</dcterms:created>
  <dc:creator>TrifonTrifonow</dc:creator>
  <dc:description/>
  <dc:language>en-US</dc:language>
  <cp:lastModifiedBy>TrifonTrifonow</cp:lastModifiedBy>
  <dcterms:modified xsi:type="dcterms:W3CDTF">2005-09-11T20:36:12Z</dcterms:modified>
  <cp:revision>3</cp:revision>
  <dc:subject/>
  <dc:title>     Копнея, Боже мой, за Твоето лице.                                              Протягаш Ти  с любов към мен прободени ръце.</dc:title>
</cp:coreProperties>
</file>